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FBC-08B8-4441-B447-139E69E8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6E1-D28C-42D1-B5AB-D551622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5BE-F4EF-4B53-9BE2-AD0EBFC4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1EB-E039-42ED-BA6A-79D0D387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C94-DE30-42E6-8092-BE9D02A1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965-5CFC-4890-9375-2A8ACF8C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334-1D82-410E-A176-328884B5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210-E283-4EE7-A99C-8785E85C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2C2-66A2-408C-94F9-0B1FFEFD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0DD-31BC-4951-9695-33F4029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EF5-EEDF-41CE-9A01-D54D7D65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8E7-C721-4385-939D-512A451E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02C8-EBB5-4DF0-8F9B-683F5CB7B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it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ro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-el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5638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ont les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toi, quel est ton cours favo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ton professeur favo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strict?  Qui est amusant?  Qui est intéress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cours est trop difficile?  Très fac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urs est facile ou diffic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 est stric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5181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urs est fac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ctivités s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éress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388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urs est facile ou diffic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urs est intéress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057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4291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-17416" r="0" b="0"/>
          <a:stretch/>
        </p:blipFill>
        <p:spPr>
          <a:xfrm>
            <a:off x="2286000" y="2859120"/>
            <a:ext cx="5181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est le pr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-el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95680" y="3411360"/>
            <a:ext cx="4038840" cy="30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53341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e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22:03:20Z</dcterms:created>
  <dc:creator>edill</dc:creator>
  <dc:description/>
  <dc:language>en-US</dc:language>
  <cp:lastModifiedBy>edill</cp:lastModifiedBy>
  <dcterms:modified xsi:type="dcterms:W3CDTF">2011-10-16T23:05:15Z</dcterms:modified>
  <cp:revision>6</cp:revision>
  <dc:subject/>
  <dc:title>Chapitre 2</dc:title>
</cp:coreProperties>
</file>